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D48-97C2-46C6-A18F-1876ED0A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9AE-1B40-4E7C-94FC-B97578E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E53-AFD8-480D-9288-321EE5C1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64A5-5250-44E3-B159-3DE932CF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805-E586-4070-8792-6A550C68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C1F1-DC87-4A3A-A45B-9B5EE12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8CE2-32C7-486D-A2C9-9E486DCC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3457-77BB-46F0-A60C-DE28431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6620-2900-4F0C-830A-EFD25ED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35D-B7F2-4BA6-B9CE-8227F1AE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F4B7-2A37-4A5B-8E19-DA8FAD7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2B2-5EDC-4BB3-95FC-7283E84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51AC-5B00-41A1-A73F-BA08B0CB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310D-9ADB-455B-9AC5-C97DD65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3E89-4C1B-48EE-ACE5-09FD5485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CAE-0722-49BA-B665-6D2B375E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70604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840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F5DE-EA73-4CF7-9B33-E05B7EE6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D1D-0CB9-4ED5-B71E-FAE130D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EB7-3F50-4BE8-862E-1E8146F5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756-56CC-48FC-9A17-A8F4997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26028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05E-71B4-439C-ACE4-DA84B398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BB5-2E46-4815-9084-9E4AC8CB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840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133-9622-4864-B360-5769C935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70604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840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67E-9A76-4E52-9CCF-3EEB14D5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B7A2-3ADE-40F2-A120-9ADFF2C04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70604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DDD-3C6F-4180-9078-7490F0278BD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53000"/>
            <a:ext cx="8910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vision of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6244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4, Section 1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533520" y="167652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447920" y="1523880"/>
            <a:ext cx="6095880" cy="19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nied Both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been denied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olate rights of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3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Text Box 19"/>
          <p:cNvSpPr/>
          <p:nvPr/>
        </p:nvSpPr>
        <p:spPr>
          <a:xfrm rot="20140800">
            <a:off x="74160" y="1295280"/>
            <a:ext cx="2438280" cy="459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XCLUSIVE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9"/>
          <p:cNvGrpSpPr/>
          <p:nvPr/>
        </p:nvGrpSpPr>
        <p:grpSpPr>
          <a:xfrm>
            <a:off x="2438280" y="838080"/>
            <a:ext cx="4343400" cy="2498760"/>
            <a:chOff x="2438280" y="838080"/>
            <a:chExt cx="4343400" cy="2498760"/>
          </a:xfrm>
        </p:grpSpPr>
        <p:pic>
          <p:nvPicPr>
            <p:cNvPr id="182" name="Picture 22" descr=""/>
            <p:cNvPicPr/>
            <p:nvPr/>
          </p:nvPicPr>
          <p:blipFill>
            <a:blip r:embed="rId1"/>
            <a:stretch/>
          </p:blipFill>
          <p:spPr>
            <a:xfrm>
              <a:off x="3200400" y="914400"/>
              <a:ext cx="2514600" cy="24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3" descr=""/>
            <p:cNvPicPr/>
            <p:nvPr/>
          </p:nvPicPr>
          <p:blipFill>
            <a:blip r:embed="rId2"/>
            <a:stretch/>
          </p:blipFill>
          <p:spPr>
            <a:xfrm>
              <a:off x="6019920" y="1447920"/>
              <a:ext cx="76176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4" descr=""/>
            <p:cNvPicPr/>
            <p:nvPr/>
          </p:nvPicPr>
          <p:blipFill>
            <a:blip r:embed="rId3"/>
            <a:stretch/>
          </p:blipFill>
          <p:spPr>
            <a:xfrm>
              <a:off x="2438280" y="13716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5" descr=""/>
            <p:cNvPicPr/>
            <p:nvPr/>
          </p:nvPicPr>
          <p:blipFill>
            <a:blip r:embed="rId4"/>
            <a:stretch/>
          </p:blipFill>
          <p:spPr>
            <a:xfrm>
              <a:off x="2895480" y="2209680"/>
              <a:ext cx="762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"/>
            <p:cNvPicPr/>
            <p:nvPr/>
          </p:nvPicPr>
          <p:blipFill>
            <a:blip r:embed="rId5"/>
            <a:stretch/>
          </p:blipFill>
          <p:spPr>
            <a:xfrm>
              <a:off x="5410080" y="22860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"/>
            <p:cNvPicPr/>
            <p:nvPr/>
          </p:nvPicPr>
          <p:blipFill>
            <a:blip r:embed="rId6"/>
            <a:stretch/>
          </p:blipFill>
          <p:spPr>
            <a:xfrm>
              <a:off x="4952880" y="914400"/>
              <a:ext cx="76212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"/>
            <p:cNvPicPr/>
            <p:nvPr/>
          </p:nvPicPr>
          <p:blipFill>
            <a:blip r:embed="rId7"/>
            <a:stretch/>
          </p:blipFill>
          <p:spPr>
            <a:xfrm>
              <a:off x="3429000" y="838080"/>
              <a:ext cx="762120" cy="73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upremacy Clause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rticle VI, Section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276720" y="5943600"/>
            <a:ext cx="2286000" cy="916920"/>
          </a:xfrm>
          <a:prstGeom prst="rect">
            <a:avLst/>
          </a:prstGeom>
          <a:solidFill>
            <a:srgbClr val="ff151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ity and County Charters and Ordinanc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91" name="Group 15"/>
          <p:cNvGrpSpPr/>
          <p:nvPr/>
        </p:nvGrpSpPr>
        <p:grpSpPr>
          <a:xfrm>
            <a:off x="3352680" y="4876920"/>
            <a:ext cx="2210040" cy="1066680"/>
            <a:chOff x="3352680" y="4876920"/>
            <a:chExt cx="2210040" cy="1066680"/>
          </a:xfrm>
        </p:grpSpPr>
        <p:sp>
          <p:nvSpPr>
            <p:cNvPr id="192" name="Text Box 6"/>
            <p:cNvSpPr/>
            <p:nvPr/>
          </p:nvSpPr>
          <p:spPr>
            <a:xfrm>
              <a:off x="3352680" y="48769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Statues (laws)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3" name="AutoShape 10"/>
            <p:cNvSpPr/>
            <p:nvPr/>
          </p:nvSpPr>
          <p:spPr>
            <a:xfrm>
              <a:off x="3962520" y="54864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4" name="Group 16"/>
          <p:cNvGrpSpPr/>
          <p:nvPr/>
        </p:nvGrpSpPr>
        <p:grpSpPr>
          <a:xfrm>
            <a:off x="3352680" y="3962520"/>
            <a:ext cx="2210040" cy="914400"/>
            <a:chOff x="3352680" y="3962520"/>
            <a:chExt cx="2210040" cy="914400"/>
          </a:xfrm>
        </p:grpSpPr>
        <p:sp>
          <p:nvSpPr>
            <p:cNvPr id="195" name="Text Box 7"/>
            <p:cNvSpPr/>
            <p:nvPr/>
          </p:nvSpPr>
          <p:spPr>
            <a:xfrm>
              <a:off x="3352680" y="3962520"/>
              <a:ext cx="2210040" cy="642600"/>
            </a:xfrm>
            <a:prstGeom prst="rect">
              <a:avLst/>
            </a:prstGeom>
            <a:solidFill>
              <a:srgbClr val="ff1515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tate Constitution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6" name="AutoShape 12"/>
            <p:cNvSpPr/>
            <p:nvPr/>
          </p:nvSpPr>
          <p:spPr>
            <a:xfrm>
              <a:off x="3962520" y="44197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3352680" y="2971800"/>
            <a:ext cx="2210040" cy="990720"/>
            <a:chOff x="3352680" y="2971800"/>
            <a:chExt cx="2210040" cy="990720"/>
          </a:xfrm>
        </p:grpSpPr>
        <p:sp>
          <p:nvSpPr>
            <p:cNvPr id="198" name="Text Box 8"/>
            <p:cNvSpPr/>
            <p:nvPr/>
          </p:nvSpPr>
          <p:spPr>
            <a:xfrm>
              <a:off x="3352680" y="2971800"/>
              <a:ext cx="2210040" cy="36828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cts of Congress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99" name="AutoShape 13"/>
            <p:cNvSpPr/>
            <p:nvPr/>
          </p:nvSpPr>
          <p:spPr>
            <a:xfrm>
              <a:off x="3962520" y="350532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3352680" y="1828800"/>
            <a:ext cx="2210040" cy="1143000"/>
            <a:chOff x="3352680" y="1828800"/>
            <a:chExt cx="2210040" cy="1143000"/>
          </a:xfrm>
        </p:grpSpPr>
        <p:sp>
          <p:nvSpPr>
            <p:cNvPr id="201" name="Text Box 9"/>
            <p:cNvSpPr/>
            <p:nvPr/>
          </p:nvSpPr>
          <p:spPr>
            <a:xfrm>
              <a:off x="3352680" y="1828800"/>
              <a:ext cx="2210040" cy="642600"/>
            </a:xfrm>
            <a:prstGeom prst="rect">
              <a:avLst/>
            </a:prstGeom>
            <a:solidFill>
              <a:srgbClr val="381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United States Constitution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>
              <a:off x="3962520" y="2514600"/>
              <a:ext cx="914400" cy="457200"/>
            </a:xfrm>
            <a:prstGeom prst="upArrow">
              <a:avLst>
                <a:gd name="adj1" fmla="val 60417"/>
                <a:gd name="adj2" fmla="val 52431"/>
              </a:avLst>
            </a:prstGeom>
            <a:solidFill>
              <a:srgbClr val="ffffff"/>
            </a:solidFill>
            <a:ln cap="sq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3" name="Text Box 19"/>
          <p:cNvSpPr/>
          <p:nvPr/>
        </p:nvSpPr>
        <p:spPr>
          <a:xfrm>
            <a:off x="5562720" y="228600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he U.S. Constitution is the </a:t>
            </a:r>
            <a:r>
              <a:rPr b="1" lang="en-US" sz="3600" spc="-1" strike="noStrike">
                <a:solidFill>
                  <a:srgbClr val="ff1515"/>
                </a:solidFill>
                <a:latin typeface="Verdana"/>
              </a:rPr>
              <a:t>“Supreme Law of the Land.”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685800" y="2819520"/>
            <a:ext cx="205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f there is a conflict between a lower law and a higher one, the higher one “wins.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4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Line 6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AutoShape 12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3520" y="1855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AutoShape 14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AutoShape 11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562720" y="2057400"/>
            <a:ext cx="3124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xpress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pelled out in the Constitu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18 clauses giving 27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Tax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Coin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Regulate trad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Declare war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Grant pat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562720" y="2057400"/>
            <a:ext cx="3124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mpl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reasonably suggest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Article I, Section 18, Clause 18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ecessary and proper”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he Elastic Cla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Build dam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Highways &amp; road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  <a:ea typeface="Arial"/>
              </a:rPr>
              <a:t>Determ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914400" y="4114800"/>
            <a:ext cx="4191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AutoShape 7"/>
          <p:cNvSpPr/>
          <p:nvPr/>
        </p:nvSpPr>
        <p:spPr>
          <a:xfrm rot="1710600">
            <a:off x="1752120" y="25909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3520" y="18288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xpress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mplied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her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562720" y="2057400"/>
            <a:ext cx="3124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Inhe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Not written in Constitution, but belong to national government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Regulate immigr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Grant diplomatic recognition to natio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otect the nation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914400" y="4114800"/>
            <a:ext cx="4343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228600" y="57150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Denied National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562720" y="2057400"/>
            <a:ext cx="3352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nied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Expressly denie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Infringe on rights (speech, press, etc.)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Silence in Constitution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Only has delegat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Verdana"/>
              </a:rPr>
              <a:t>Denied in Federal System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Can’t tax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87692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Reserved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AutoShape 13"/>
          <p:cNvSpPr/>
          <p:nvPr/>
        </p:nvSpPr>
        <p:spPr>
          <a:xfrm rot="19782600">
            <a:off x="6477120" y="2514600"/>
            <a:ext cx="838080" cy="457200"/>
          </a:xfrm>
          <a:prstGeom prst="leftArrow">
            <a:avLst>
              <a:gd name="adj1" fmla="val 50000"/>
              <a:gd name="adj2" fmla="val 45827"/>
            </a:avLst>
          </a:prstGeom>
          <a:solidFill>
            <a:srgbClr val="ff1515"/>
          </a:soli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71629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28600" y="2133720"/>
            <a:ext cx="312408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Reserved Power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10</a:t>
            </a:r>
            <a:r>
              <a:rPr b="0" lang="en-US" sz="1800" spc="-1" strike="noStrike" baseline="30000">
                <a:solidFill>
                  <a:srgbClr val="ff1515"/>
                </a:solidFill>
                <a:latin typeface="Verdana"/>
              </a:rPr>
              <a:t>th</a:t>
            </a: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 Amend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Not granted to Federal, but not denied to states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Legal marriage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Drinking ag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Professional licen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Confiscate propert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The power of the state to protect and promote public health, the public morals, the public safety, and the general welfare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3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3657600" y="4114800"/>
            <a:ext cx="44956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28600" y="2133720"/>
            <a:ext cx="373392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Denied States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Constitution denies certain powers to state, because they are NOT a federal government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Make treaties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Print mone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151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  <a:ea typeface="Arial"/>
              </a:rPr>
              <a:t>Deny rights to citizen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705720" y="5653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515"/>
                </a:solidFill>
                <a:latin typeface="Verdana"/>
              </a:rPr>
              <a:t>Denied Stat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vernment Powers</a:t>
            </a:r>
            <a:br>
              <a:rPr sz="4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Division of Pow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1447920" y="2362320"/>
            <a:ext cx="350496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ational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038480" y="2362320"/>
            <a:ext cx="3505320" cy="3504960"/>
          </a:xfrm>
          <a:prstGeom prst="ellipse">
            <a:avLst/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Verdana"/>
              </a:rPr>
              <a:t>Governmen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914400" y="4114800"/>
            <a:ext cx="7238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3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Grant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8120" y="6172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s Denied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58128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t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2767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ied Both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533520" y="4114800"/>
            <a:ext cx="8076960" cy="243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447920" y="4191120"/>
            <a:ext cx="60958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urrent: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th States and National have these power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exercised separately and simultaneously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ct tax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e crimes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emn or take private property for public use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3:07:27Z</dcterms:created>
  <dc:creator>davidm</dc:creator>
  <dc:description/>
  <dc:language>en-US</dc:language>
  <cp:lastModifiedBy>hberndt</cp:lastModifiedBy>
  <dcterms:modified xsi:type="dcterms:W3CDTF">2009-10-05T12:56:45Z</dcterms:modified>
  <cp:revision>7</cp:revision>
  <dc:subject/>
  <dc:title>Federalism</dc:title>
</cp:coreProperties>
</file>